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359-791D-4823-BE65-9FC5A7EC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6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153-7C45-4F7F-967B-FACE1C9D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456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6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456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075-F3BE-4C60-A436-7C1077FA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110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34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6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110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934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5F5-73D4-44F4-8875-F269CFB3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3C3-6015-4F50-B637-5B2A75A0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794-B85A-4DF8-9AD3-B64E6A4C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456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98B-5C78-4118-8880-D32E0AD3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5EA-7B90-4AE9-99A4-ED30B65F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F52-18E6-4AF1-A469-2412CD36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56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879-0852-476F-9898-0E60A45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456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456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15C-C7AF-425C-A50C-2CED74B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56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6D6-7605-4803-ADCB-E5123C06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54A0-5D75-4726-A084-757BF16FA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6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-20520"/>
            <a:ext cx="8077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conditional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d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-6840"/>
            <a:ext cx="77724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conditional Stat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d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530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arts of the biconditional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308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f a solution is neutr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ts pH is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5200" y="5130720"/>
            <a:ext cx="75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f a solution’s pH is 7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t is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5680" y="16765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040" y="213372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 solution is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7240" y="25909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 solution’s pH is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5680" y="32767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7339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n angle is a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194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n angle has a measure that is greater than 0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and less than 90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14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angle is acute iff its measure is greater than 0° and less than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6160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ditional statement and converse within the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42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n angle is acu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ts measure is greater than 0° and less than 90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5680" y="153684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98108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n angle is a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514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n angle has a measure that is greater than 0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and less than 90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597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arts of the biconditional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34996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n angle’s measure is greater than 0° and less than 90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 angle is a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225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o is a member if and only if he has paid the $5 d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3716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ditional statement and converse within the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1440" y="5181120"/>
            <a:ext cx="7848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Cho is a member, then he has paid the $5 d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5680" y="30481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160" y="350532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Cho is a m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965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Cho has paid his $5 d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2600" y="4479840"/>
            <a:ext cx="82296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arts of the biconditional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1440" y="5896080"/>
            <a:ext cx="8686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Cho has paid the $5 dues, then he is a m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each conditional, write the converse and a biconditio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Identifying the Conditionals within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6827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If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8 = 37, th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1240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, then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 = 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033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If two angles have the same measure, then they are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800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two angles are congruent, then they have the same mea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581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: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 = 37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654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: Two angles have the same measure if and only if they are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26827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the date is July 4th, then it is Independenc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the conditional, write the converse and a biconditio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579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it is Independence Day, then the date is July 4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495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: It is July 4th if and only if it is Independenc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the conditional, write the converse and a biconditio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7432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points lie on the same line, then they are col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672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points are collinear, then they lie on the same 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646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: Points lie on the same line if and only if they are col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17524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biconditional statement to be true, both the conditional statement and its converse must be true. If either the conditional or the converse is false, then the biconditional statement is fa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bi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Analyzing the Truth Value of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682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ectangle has side lengths of 12 cm and 25 cm if and only if its area is 3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Analyzing the Truth Value of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9810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a rectangle has side lengths of 12 cm and 25 cm, then its area is 3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3526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a rectangle’s area is 3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it has side lengths of 12 cm and 2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1981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8120" y="3368520"/>
            <a:ext cx="24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vers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800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rectangle’s area is 3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t could have side lengths of 10 cm and 30 cm. Because the converse is false, the biconditional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838080"/>
            <a:ext cx="8534520" cy="5486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conditional statement from each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intersection of two lines is 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dd number is one more than a multiple of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rite the converse of the conditional “If Pedro lives in Chicago, then he lives in Illinois.” Find its trut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8641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f two lines intersect, then they intersect in 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7483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f a number is odd, then it is one more than a multiple of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54928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f Pedro lives in Illinois, then he lives in Chicago;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bi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Analyzing the Truth Value of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682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atural numbe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od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360" y="327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a natural numb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odd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60840" y="327672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191120"/>
            <a:ext cx="49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the squ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 natural number is odd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7400" y="42670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vers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6360" y="5502240"/>
            <a:ext cx="61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the conditional and its converse are true, the bi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454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angle is a right angle iff its measure is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238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bi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6360" y="30481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an angle is a right angle, then its measure is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99160" y="304812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962520"/>
            <a:ext cx="49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the measure of an angle is 90°, then it is a right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95360" y="40384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vers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360" y="5273640"/>
            <a:ext cx="61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the conditional and its converse are true, the bi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26827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bi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360" y="3276720"/>
            <a:ext cx="45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5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=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9160" y="327672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191120"/>
            <a:ext cx="49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= 25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= –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98600" y="42670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vers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273640"/>
            <a:ext cx="61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verse is false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. Thus, the biconditional is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876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ometry, biconditional statements are used to writ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fini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384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tatement that describes a mathematical object and can be written as a true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1295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glossary,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defined as a closed plane figure formed by three or more line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8920" y="2971800"/>
            <a:ext cx="89154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1371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defined as a three-sided polygon, and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drilater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four-sided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63439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80880" y="2438280"/>
            <a:ext cx="7854840" cy="1287720"/>
            <a:chOff x="380880" y="2438280"/>
            <a:chExt cx="7854840" cy="1287720"/>
          </a:xfrm>
        </p:grpSpPr>
        <p:sp>
          <p:nvSpPr>
            <p:cNvPr id="183" name=""/>
            <p:cNvSpPr/>
            <p:nvPr/>
          </p:nvSpPr>
          <p:spPr>
            <a:xfrm>
              <a:off x="387000" y="290052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ink of definitions as being reversible. Postulates, however are not necessarily true when revers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24382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definition as a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0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Writing Definitions as Bicondition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682720"/>
            <a:ext cx="84582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A pentagon is a five-sided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A right angle measures 90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2911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igure is a pentagon if and only if it is a 5-sided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4840" y="5029200"/>
            <a:ext cx="74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gle is a right angle if and only if it measures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2682720"/>
            <a:ext cx="8305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a. A quadrilateral is a four-sided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b. The measure of a straight angle is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definition as a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319896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igure is a quadrilateral if and only if it is a 4-sided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7991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traigh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and only if its measure is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1436040"/>
            <a:ext cx="792504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conditional “If an angle is right, the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s measure is 90°,” write the converse and 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 statement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termine if the biconditional “Two angles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mentary if and only if they are bot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ute”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3977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alse; possible answer: 30° and 4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6360" y="25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erse: If a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measures 90°, then th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is r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iconditional: A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is right iff its measure is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479556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rite the definition “An acute triangle is 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angle with three acute angles” as 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5942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 triangle is acute iff it has 3 acu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382240" cy="1143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and analyze biconditional statemen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81080"/>
            <a:ext cx="8382240" cy="31244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conditional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drila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combine a conditional statement and its converse, you create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iconditional stat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4290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conditional stat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tatement that can be written in the form 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 This means “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 and “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523880" y="1905120"/>
            <a:ext cx="8001000" cy="459720"/>
            <a:chOff x="1523880" y="1905120"/>
            <a:chExt cx="8001000" cy="459720"/>
          </a:xfrm>
        </p:grpSpPr>
        <p:sp>
          <p:nvSpPr>
            <p:cNvPr id="68" name=""/>
            <p:cNvSpPr/>
            <p:nvPr/>
          </p:nvSpPr>
          <p:spPr>
            <a:xfrm>
              <a:off x="1523880" y="190512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006699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means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1" i="1" lang="en-US" sz="2400" spc="-1" strike="noStrike">
                  <a:solidFill>
                    <a:srgbClr val="006699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1" i="1" lang="en-US" sz="2400" spc="-1" strike="noStrike">
                  <a:solidFill>
                    <a:srgbClr val="006699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04760" y="2171880"/>
              <a:ext cx="53352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06760" y="2171880"/>
              <a:ext cx="53352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4480" y="2159280"/>
              <a:ext cx="53352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47560" y="3047040"/>
            <a:ext cx="7848720" cy="1283760"/>
            <a:chOff x="547560" y="3047040"/>
            <a:chExt cx="7848720" cy="1283760"/>
          </a:xfrm>
        </p:grpSpPr>
        <p:sp>
          <p:nvSpPr>
            <p:cNvPr id="73" name=""/>
            <p:cNvSpPr/>
            <p:nvPr/>
          </p:nvSpPr>
          <p:spPr>
            <a:xfrm>
              <a:off x="547560" y="350532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biconditional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f and only 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” can also be written as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f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” 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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3600" y="3047040"/>
              <a:ext cx="220932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Writ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ditional statement and converse within the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Identifying the Conditionals within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682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angle is obtuse if and only if its measure is greater than 90° and less than 18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6320" y="358128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8080" y="4038480"/>
            <a:ext cx="34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n angle is obt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4355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n angle’s measure is greater than 90° and less than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6200" y="3505320"/>
            <a:ext cx="82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arts of the biconditional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282920"/>
            <a:ext cx="936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f an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is obtuse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ts measure is greater than 90° and less than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181480"/>
            <a:ext cx="81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f an angle's measure is greater than 90° and less than 180°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t is obtus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3200" y="152388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4960" y="2057400"/>
            <a:ext cx="34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n angle is obt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n angle’s measure is greater than 90° and less than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ditional statement and converse within the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Identifying the Conditionals within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682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olution is neutra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its pH is 7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5680" y="32767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3040" y="373392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 solution is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7240" y="41911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 solution’s pH is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6:52:53Z</dcterms:modified>
  <cp:revision>91</cp:revision>
  <dc:subject/>
  <dc:title>Slide 1</dc:title>
</cp:coreProperties>
</file>